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105-BB0D-4445-BB86-6C2C456E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EEA-38D8-46C1-B91C-D7D87E5D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D3C-65BF-467B-AD01-A5F91441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A8D-0994-42C2-ABEB-AE2362C6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841-63D7-4957-9745-AF237DDC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C44-7C49-41DD-AB95-F7300F3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575-6761-47EA-9E6C-EF18A744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D74-DC9E-436C-981F-225BF0E1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AF0-E5E4-443D-B6E8-5E491CB2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207-8E3B-456D-9C69-A134F54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9D3-C0A0-4529-BC56-6C73561E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DE9-CB12-44E4-BD67-59EC7DC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D99E-59B3-446B-8E5A-B5AC6054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אכסני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807000" cy="34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33920" y="3581280"/>
            <a:ext cx="45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ספומט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41920" y="1600200"/>
            <a:ext cx="426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ל  מי   הכספומט   הז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בנק  הפועל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14800" y="2708280"/>
            <a:ext cx="46483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ילד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 אמ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ילדים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אל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24080" y="2071800"/>
            <a:ext cx="56772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מי  הילדה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זא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3413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  המיטה  הזאת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מיטה של  דובי  קט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86240" y="1600200"/>
            <a:ext cx="3567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ל מי   המיטה   הזאת ?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מיטה  הזאת  לא  של  זהב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86240" y="1600200"/>
            <a:ext cx="3567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ל  מי    הבית    הזה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ית  הזה  לא  של  עמי  ותמ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4552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ספר  הזה ?  של ילד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3530520" cy="5200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6800" y="1600200"/>
            <a:ext cx="3027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ילדות הא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כסניה  בעין גדי ליד  ים המל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En Gedi Youth Hostel (2007Nov4)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37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67000" y="2262240"/>
            <a:ext cx="2610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כלב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ניל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מי  הספר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ספר של  של  סילברסטיי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57800" y="1905120"/>
            <a:ext cx="34322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מי הספר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 ג'יי  קיי  רולינג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1800" y="2590920"/>
            <a:ext cx="3562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 מטיילים 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1762200"/>
            <a:ext cx="39621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 __ __ __ __ __ __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טייל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__ __ __ __ __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טיי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648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יול  במדב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459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588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לפון       ציבור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36482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לפון ציבורי  בבלג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238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9:33:38Z</dcterms:created>
  <dc:creator>Preferred Customer</dc:creator>
  <dc:description/>
  <dc:language>en-US</dc:language>
  <cp:lastModifiedBy>aschlezinger</cp:lastModifiedBy>
  <dcterms:modified xsi:type="dcterms:W3CDTF">2011-02-17T18:45:36Z</dcterms:modified>
  <cp:revision>2</cp:revision>
  <dc:subject/>
  <dc:title>אכסניה   </dc:title>
</cp:coreProperties>
</file>